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5.png" ContentType="image/png"/>
  <Override PartName="/ppt/media/image15.wmf" ContentType="image/x-wmf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16.wmf" ContentType="image/x-wmf"/>
  <Override PartName="/ppt/media/image8.png" ContentType="image/png"/>
  <Override PartName="/ppt/media/image9.jpeg" ContentType="image/jpeg"/>
  <Override PartName="/ppt/media/image1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DFD8A-D8AE-464B-A82C-545E6D4120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85FCD-E2F5-41B7-A083-620AE6F7E9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01581-EF68-41C5-8480-FEB71EC045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E6EAF-C5BB-4C7A-9579-B4BDAA96E1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73BB-912B-4231-862C-4470BE6C65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6C69B-A523-4BCA-938A-8B3F6BCB96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E603-CA6F-4D8E-87C9-BAF5186174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DBE88-70C3-493A-B549-607A254B1D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F4329-6B70-437B-8929-63BACDAD68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59DC8-F9BF-49D1-9493-73B946DE3F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B4BD-379C-4BB0-BFB0-8C99D86220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CC4B-E952-4C8A-8D41-7542E360C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BB85-C496-4C31-8CB9-90A87EC0F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6BB634-9887-4D7A-8C50-85CA88287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78ADF8-0F66-4456-B09D-AC8318356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0D0012-15AA-402E-86C4-4852677B3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400B21-B2FF-49C3-920B-B52EB457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489EAB-7EEE-4FD5-BA43-C0DDF012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454B5C-EBB0-40F5-BF1A-6862CDCB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6ED03B-6E89-4287-8577-DF852FEB2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937584-806C-4A7F-B3FA-F15644CC3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48D470-87A4-4D00-B718-F48D44842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B655-C4C6-40B3-A543-BB8299F8B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E718-B9A0-4FE2-A15D-FFC09B2C3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AED6C-116B-4BD4-B9CF-87FBD87F4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52024-ECCF-4DC5-B7CB-F294D03D2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E7D71-7AF9-452F-843C-B3380B581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9D9AE-C38C-48D2-BF66-CFC7E8FA5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E61E9-01AF-4833-B0E8-A2B7DADAB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7C413-D185-4B5D-86EB-02B34BAA3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F0A04-0A7B-46A3-BB29-AAF5222C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E2DA-B3D4-48F6-BC8F-3C9C83629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31A7F-DDC7-49C7-8D6B-91F4A604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530D8-C194-4FF6-8AF5-0FA72424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E3A27-558C-4A85-9959-55DD7CFA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50AFC-05F2-46A6-AFA9-B5B5FF98C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E4B86-7D2B-432C-9A71-90A6D8603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06626-5317-49A1-98AD-F12452D79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BBC0F-EC6D-4CB8-8E83-75BC22D59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597BF-E12D-4F07-B961-CC9D4EC63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4FF90-6876-4469-939C-FD0016F60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72B01-CC44-4829-AB11-FFC3D4016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5FF8-176A-478E-BD7B-68B097ED8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4A822-E749-47EE-AFC7-7F66835D9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DEEE5-6010-45FF-8E28-060EF640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F59A7-0EB9-4C7D-9D93-56219DF5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F1DE2-98AC-4788-8B4A-FAA91AC5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48B78-BEB8-41D7-B0F2-E4A0B365F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C30E5-66D5-401F-B802-C3C8D851D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290AD-5D77-40FD-8B99-C25CEB921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1EA83-F324-4F4C-A682-38ED36619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2C7A1-2CB6-494D-A315-9FD50350C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F91C7-D5F4-4E45-B65E-E673FFA62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BF13-0D3D-4914-81F8-D6EAD05F9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D9D38-A62C-40CE-A1FC-D01F6B92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5B3F3-2209-4FAC-83BF-5608A8D92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08CBD-A21C-430F-930E-458F15FB1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8AD45-E61E-4E01-BC56-EE42B3BA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9F04B-C246-4D02-AF04-A9C2A49D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BDA61-4DC0-45F9-ADC7-D505B4DF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0852B-9C65-4397-BF35-CA6CD52A3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42DCD-885F-44BD-B752-12DC91727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2BDF9-5841-4462-ACA5-C4E9FD732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B0023-E76D-47DA-A54B-BC8D1FF18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1E46-5058-4751-92AD-5324F348C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E1E28-BC7A-4826-A16C-38DEB4679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1644F-14CE-4485-B4EC-F2B60CED1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3A084-9FD6-41F7-825E-3BAD05855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E593E-E30D-4195-84D3-BAD0E8BF0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3B0C5-165E-401D-9EE4-8F512C578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DF80E-AD10-4019-BC0D-48BE7979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F3B1A-FD38-48F5-85C8-B11A8DE1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54A23-0DE1-4E7D-A751-34EBB13B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502F1-683D-4DB3-9700-60C8B619D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F8584-A1A0-4950-B811-F51B406A7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BF13-586C-4E56-828F-0B6FB5BDF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E736F-64BE-4EA1-81AE-3CB7F4EA7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BED3F-10B2-4095-8D58-E3D0B8B7C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3D4FE9-0F01-4C54-8BA2-98DE267D0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E7F32-9338-4A98-A8C7-0CEE1A1BA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FF307-C657-4964-9621-16ACBF1E5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75FA1D-B4B1-4BCA-A77C-1BFCB5E65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49B7B-AB96-4B48-BFE6-72DFD3B85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5175C-8A58-4D78-98DE-8907FE87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31AB8-856E-43F5-A706-97231FEC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D892C-4095-4823-BAF2-F3F0331C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8F08-3BB7-43B5-994B-62BDDF18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48663-72B7-467F-B9AB-391979500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069FE-97C4-4454-A538-20558E42B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DDD8C-1310-4221-9800-5C8C73019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BEBE5F-121A-407F-81C4-8EE1F6147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E2FB70-31FD-4D22-907A-E41703A11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E90D4-38B8-4221-863F-6E1800704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849996-9A9C-4D10-B93A-53C3772DC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58FE7-B5AD-4D60-8B2A-AEF40C0D5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0EEB17-B261-4968-B7FD-93F36220E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1E732-39D1-4BA2-980A-1749AA7F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31AF-35B8-4AA7-BA17-41E21EAC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D966F-0197-4989-A60E-565E973B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16769-8AAC-4717-B261-36924BEF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1FB82-4C33-45FC-B2E5-79B1A5759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814DF-638E-4D3B-8394-48343C9EF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54F37B-77D4-40A4-9416-04881A800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F02F6F-E420-4F22-BA24-E2E3DC15A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4A78A0-A381-4014-9F2F-E074E6C51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DA9068-41F8-4C55-921B-75C35F2AC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D38D0A-A942-4A61-9C09-F2934DFCD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129C9B-3D66-47C6-82A6-7A3EFB8F0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75E9-6609-410D-AB90-E19038D6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09FA22-940F-439D-89E9-CF9359C2C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E6EC53-EF6A-44E4-9EC0-F8B20B5F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30C434-9283-4BA6-9563-FF2AD31B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4C6411-706F-4583-994C-B1773EEB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C3CBAE-F904-411B-92DA-ECDC493B3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755FC4-794B-465A-A9D8-2333A3982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6DB75D-87EE-4EEB-A84C-A8E94EA0D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5AF0AE-31CC-4397-803A-A0485E3F9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6A2EC1-4A7D-46B7-A833-E1DF583B4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B5319B-0EAF-4DEC-93A3-572980EE7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978E0-975F-4F4C-93D0-90CAF6A8A36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F605A-640E-49E1-B34E-F5EC5466FB3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F1F9F-FB0E-4F32-B205-3F378EBE3EC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C652C-E760-43B5-AE32-EB867D14414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2DE67-9B71-4C6A-B0A9-CBDFE6F9EF0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7FC05-4D7F-4DCA-B785-BCCADE44F02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12FA7-C266-4165-94DC-532C1BA92B3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7F384-89A9-4D6C-A933-385F9AEBEBE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AB0F7-6E62-4D3E-85E0-A401933CAC9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182520" y="4761000"/>
            <a:ext cx="8663040" cy="132228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3329"/>
                </a:solidFill>
                <a:latin typeface="Franklin Gothic Book"/>
              </a:rPr>
              <a:t>Learn about them !!!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advTm="9000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re enemies are people killing them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5" name="Picture 2" descr="C:\Documents and Settings\bcsuser\Local Settings\Temporary Internet Files\Content.IE5\07G2KVT1\MCj03362510000[1].wmf"/>
          <p:cNvPicPr/>
          <p:nvPr/>
        </p:nvPicPr>
        <p:blipFill>
          <a:blip r:embed="rId2"/>
          <a:stretch/>
        </p:blipFill>
        <p:spPr>
          <a:xfrm>
            <a:off x="3048120" y="2971800"/>
            <a:ext cx="2743200" cy="3595680"/>
          </a:xfrm>
          <a:prstGeom prst="rect">
            <a:avLst/>
          </a:prstGeom>
          <a:ln w="0">
            <a:noFill/>
          </a:ln>
        </p:spPr>
      </p:pic>
    </p:spTree>
  </p:cSld>
  <p:transition advTm="9000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Endangered –an animal   that is being killed so soon there will  be gone 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0" name="Picture 4" descr="C:\Documents and Settings\bcsuser\Local Settings\Temporary Internet Files\Content.IE5\HCBFPMWS\MPj04286530000[1].jpg"/>
          <p:cNvPicPr/>
          <p:nvPr/>
        </p:nvPicPr>
        <p:blipFill>
          <a:blip r:embed="rId2"/>
          <a:stretch/>
        </p:blipFill>
        <p:spPr>
          <a:xfrm>
            <a:off x="1233360" y="3276720"/>
            <a:ext cx="6677280" cy="3581280"/>
          </a:xfrm>
          <a:prstGeom prst="rect">
            <a:avLst/>
          </a:prstGeom>
          <a:ln w="0">
            <a:noFill/>
          </a:ln>
        </p:spPr>
      </p:pic>
    </p:spTree>
  </p:cSld>
  <p:transition advTm="9000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re height is 26-32 inches .   There length is 4-5-6-to 5 feet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3" name="MSj00750620000[1]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8" descr="C:\Documents and Settings\bcsuser\Local Settings\Temporary Internet Files\Content.IE5\QSB2UD4J\MPj04387690000[1].jpg"/>
          <p:cNvPicPr/>
          <p:nvPr/>
        </p:nvPicPr>
        <p:blipFill>
          <a:blip r:embed="rId3"/>
          <a:stretch/>
        </p:blipFill>
        <p:spPr>
          <a:xfrm>
            <a:off x="3505320" y="2971800"/>
            <a:ext cx="4876560" cy="3886200"/>
          </a:xfrm>
          <a:prstGeom prst="rect">
            <a:avLst/>
          </a:prstGeom>
          <a:ln w="0">
            <a:noFill/>
          </a:ln>
        </p:spPr>
      </p:pic>
    </p:spTree>
  </p:cSld>
  <p:transition advTm="9000">
    <p:newsflash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334" fill="hold"/>
                                        <p:tgtEl>
                                          <p:spTgt spid="4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re life span is 7-8 years and some of them live to be 10 year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7" name="Picture 3" descr="C:\Users\bcsuser\AppData\Local\Microsoft\Windows\Temporary Internet Files\Content.IE5\AP4TF8BH\MPj04402650000[1].jpg"/>
          <p:cNvPicPr/>
          <p:nvPr/>
        </p:nvPicPr>
        <p:blipFill>
          <a:blip r:embed="rId2"/>
          <a:stretch/>
        </p:blipFill>
        <p:spPr>
          <a:xfrm>
            <a:off x="1219320" y="3429000"/>
            <a:ext cx="6400800" cy="2819520"/>
          </a:xfrm>
          <a:prstGeom prst="rect">
            <a:avLst/>
          </a:prstGeom>
          <a:ln w="0">
            <a:noFill/>
          </a:ln>
        </p:spPr>
      </p:pic>
    </p:spTree>
  </p:cSld>
  <p:transition advTm="9000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t will eat elk , deer, moose, and caribou and they will eat rabbits and they will eat beaver and other small anamil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0" name="Picture 2" descr="C:\Documents and Settings\bcsuser\Local Settings\Temporary Internet Files\Content.IE5\TCS1FSCI\MPj02625680000[1].jpg"/>
          <p:cNvPicPr/>
          <p:nvPr/>
        </p:nvPicPr>
        <p:blipFill>
          <a:blip r:embed="rId2"/>
          <a:stretch/>
        </p:blipFill>
        <p:spPr>
          <a:xfrm>
            <a:off x="2819520" y="3276720"/>
            <a:ext cx="3962160" cy="3124080"/>
          </a:xfrm>
          <a:prstGeom prst="rect">
            <a:avLst/>
          </a:prstGeom>
          <a:ln w="0">
            <a:noFill/>
          </a:ln>
        </p:spPr>
      </p:pic>
    </p:spTree>
  </p:cSld>
  <p:transition advTm="8000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Esdimated 7,000 to 11,200 in allaska more than 5,000 in the lower 48 states 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3" name="Picture 3" descr="C:\Documents and Settings\bcsuser\Local Settings\Temporary Internet Files\Content.IE5\QSB2UD4J\MPj02626240000[1].jpg"/>
          <p:cNvPicPr/>
          <p:nvPr/>
        </p:nvPicPr>
        <p:blipFill>
          <a:blip r:embed="rId2"/>
          <a:stretch/>
        </p:blipFill>
        <p:spPr>
          <a:xfrm>
            <a:off x="3352680" y="2819520"/>
            <a:ext cx="2971800" cy="3657600"/>
          </a:xfrm>
          <a:prstGeom prst="rect">
            <a:avLst/>
          </a:prstGeom>
          <a:ln w="0">
            <a:noFill/>
          </a:ln>
        </p:spPr>
      </p:pic>
    </p:spTree>
  </p:cSld>
  <p:transition advTm="9000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y live in  Alaska ,  Idaho , Michigan , Montana  ,   Wensconsin and Wyoming , New Mexico ,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6" name="Picture 2" descr="C:\Documents and Settings\bcsuser\Local Settings\Temporary Internet Files\Content.IE5\2HDSTUJ5\MCj04367360000[1].wmf"/>
          <p:cNvPicPr/>
          <p:nvPr/>
        </p:nvPicPr>
        <p:blipFill>
          <a:blip r:embed="rId2"/>
          <a:stretch/>
        </p:blipFill>
        <p:spPr>
          <a:xfrm>
            <a:off x="3352680" y="3124080"/>
            <a:ext cx="2289240" cy="1247760"/>
          </a:xfrm>
          <a:prstGeom prst="rect">
            <a:avLst/>
          </a:prstGeom>
          <a:ln w="0">
            <a:noFill/>
          </a:ln>
        </p:spPr>
      </p:pic>
    </p:spTree>
  </p:cSld>
  <p:transition advTm="9000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y hunt in packs  for food with there mom and dads and brothers and sisters 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9" name="Picture 3" descr="C:\Documents and Settings\bcsuser\Local Settings\Temporary Internet Files\Content.IE5\WZG18BHJ\MPj02628410000[1].jpg"/>
          <p:cNvPicPr/>
          <p:nvPr/>
        </p:nvPicPr>
        <p:blipFill>
          <a:blip r:embed="rId2"/>
          <a:stretch/>
        </p:blipFill>
        <p:spPr>
          <a:xfrm>
            <a:off x="2590920" y="2666880"/>
            <a:ext cx="3651120" cy="3657600"/>
          </a:xfrm>
          <a:prstGeom prst="rect">
            <a:avLst/>
          </a:prstGeom>
          <a:ln w="0">
            <a:noFill/>
          </a:ln>
        </p:spPr>
      </p:pic>
    </p:spTree>
  </p:cSld>
  <p:transition advTm="9000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 most common cause of death wolfs in conflict with people 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2" name="Picture 2" descr="C:\Documents and Settings\bcsuser\Local Settings\Temporary Internet Files\Content.IE5\QRH3D8K0\MCj03323060000[1].wmf"/>
          <p:cNvPicPr/>
          <p:nvPr/>
        </p:nvPicPr>
        <p:blipFill>
          <a:blip r:embed="rId2"/>
          <a:stretch/>
        </p:blipFill>
        <p:spPr>
          <a:xfrm>
            <a:off x="1752480" y="2819520"/>
            <a:ext cx="6110280" cy="3733560"/>
          </a:xfrm>
          <a:prstGeom prst="rect">
            <a:avLst/>
          </a:prstGeom>
          <a:ln w="0">
            <a:noFill/>
          </a:ln>
        </p:spPr>
      </p:pic>
    </p:spTree>
  </p:cSld>
  <p:transition advTm="10000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13:23:46Z</dcterms:created>
  <dc:creator>bcsuser</dc:creator>
  <dc:description/>
  <dc:language>en-US</dc:language>
  <cp:lastModifiedBy>Guest</cp:lastModifiedBy>
  <dcterms:modified xsi:type="dcterms:W3CDTF">2009-11-28T09:45:16Z</dcterms:modified>
  <cp:revision>14</cp:revision>
  <dc:subject/>
  <dc:title>Gray wolf</dc:title>
</cp:coreProperties>
</file>